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117-BC31-487A-8365-3D9C26E5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7F0-C173-42C0-8792-24E74BCB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F60-C2FC-4106-9799-6575C95E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DD9-2C82-4044-8919-19C7383D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E9E-F47F-4795-8FC3-CC25B8CB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05A-C3DF-40A4-BD1B-69E389BB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441-F542-4378-8666-734B2274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227-C1FD-422A-9C24-66FE4721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878-218A-4BA9-8E2E-223BD29C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8B77-7C16-4871-8967-0F5BC755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C18-6516-404A-A96D-93CE86CA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236-07B6-447F-AC8E-186ECAEF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F301-E418-416E-B6F0-498C1D8016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700360" y="2492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11-01T07:35:50Z</dcterms:modified>
  <cp:revision>810</cp:revision>
  <dc:subject/>
  <dc:title>Free PPT Backgrounds</dc:title>
</cp:coreProperties>
</file>